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3DB8-C139-4CB9-87A7-A622A5966C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accept what you are told at face va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nk about what you are told criticall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es it seem plausib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es it relate to what others have told you? Does it complete the picture? Provide a different view? Contradict? Suppo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es your primary data tell you about the constraints and opportunities for RWM planning, implementation and innovation (higher level questions) and important livelihood aspects which relate to RW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 you think could therefore be done to improve th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334-A1CF-40F8-8191-218FC9703D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ing analysis in this way means you need to work as a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combine the findings of different parts of the research – the point of good analysis is it brings everything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be able to discuss how interviews went, which parts are likely to be more rel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discuss and generate ideas with each other for a more full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challenge each other to be objective and justify ever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FBB6-3FE2-43BC-91BA-9897D040D0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 I mean by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can we justify statements in our write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present evidence and explain how strong or tentative it is (how many informants agreed, direct quotes,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d to make sure everything you say is based on ev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3A62-C4A7-42E1-B1BF-D03CCB8F85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50E1-27FA-4299-814A-ABBB3DA5F9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types of evidence do you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5BE-85CD-4657-8410-4BD5914A70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es reliability of evidence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kind of evidence do you think is more and less reliab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EB4C-4374-4BC5-A9F1-144117093F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bi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possible types of bi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6D61-49EF-4109-8B56-2FDA751536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do we mean by triang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n examp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o we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your data doesn’t agr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you have only one piece of data saying some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35B2-0D78-4B1C-A407-2674AC2F3E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assump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are they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can we deal with th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C4C-2ED3-4398-99AE-5AFFBE544E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0A7-7581-47F7-A2BE-805529F8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EF2-476E-4FBA-A88E-24521F6A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9F9-4E6F-4408-8D79-354B590D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DB9-ECB1-40EB-90D8-2447227E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247-F774-4841-954F-408B85AC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DC6-7B7D-48AD-831B-F744A165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3A6-2036-48CC-A549-8936F86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173-C56C-439D-9AA4-D0B66387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6ED-3744-46C9-84CC-29021ED4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ACC-1BC7-4B4C-BE22-B9B0B372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000-E35D-44AA-BC66-D3F57292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C9C-7D0B-4A0B-8639-EA526FF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FD3C-8601-4F2D-A7E5-6BA3FFB485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alibri"/>
              </a:rPr>
              <a:t>Key concepts in qualitative data analysis and write up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484280"/>
            <a:ext cx="7859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Critical 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questioning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1844640"/>
            <a:ext cx="7859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55640" y="1915920"/>
            <a:ext cx="77040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Justification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900000" y="21337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Storylin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900000" y="21337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900000" y="2133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47640" y="2205000"/>
            <a:ext cx="6769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Evidenc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331640" y="2060640"/>
            <a:ext cx="6264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58920" y="2060640"/>
            <a:ext cx="2819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Bia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773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500" spc="-1" strike="noStrike">
                <a:solidFill>
                  <a:srgbClr val="000000"/>
                </a:solidFill>
                <a:latin typeface="Calibri"/>
              </a:rPr>
              <a:t>Triangulation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55280" y="1844640"/>
            <a:ext cx="785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0000"/>
                </a:solidFill>
                <a:latin typeface="Calibri"/>
              </a:rPr>
              <a:t>Assumptions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3:07:23Z</dcterms:created>
  <dc:creator>jtucker</dc:creator>
  <dc:description/>
  <dc:language>en-US</dc:language>
  <cp:lastModifiedBy>jtucker</cp:lastModifiedBy>
  <dcterms:modified xsi:type="dcterms:W3CDTF">2011-05-09T13:27:12Z</dcterms:modified>
  <cp:revision>13</cp:revision>
  <dc:subject/>
  <dc:title>Key concepts in qualitative data analysis</dc:title>
</cp:coreProperties>
</file>